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RUMBL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E4FF-A053-4329-99B5-3DEC973FFD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7A46-23A1-4DFB-A829-775C640F360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1984-1261-4F24-AE0E-0534DC8CCDC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4FBD-C23D-43D1-964E-C90755958D1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6849-69F0-4142-8B76-AD65D9786F5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9AF9-608E-4EE1-AA19-2EDF7755EF5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D9A4-C9CB-40B2-BC9A-3AC7B1E300E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559B-70AE-425F-B29B-FC4145ABAD9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9CE2-8D47-4362-B29A-A7775787366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6D1F-A97A-460A-8371-0B632C83072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7EB3-561F-423E-A919-5233878A99A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65F7-8C93-48D7-A664-3CCA5A88723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D713-DB5D-4D0B-858C-E74CBDC3560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FBD2-43E4-4218-B6DE-BB2CA98CF0A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8C76-621F-495E-845F-D6A015A35EC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A26A-BAD3-408A-AC42-8EB7BAF70D1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F302-E29A-4E92-97BD-DD1CA49302F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68AB-3193-44C6-B990-F6A036531DC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E59B-084E-484B-93D1-2B6AA793137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089D-9017-44A6-B5AD-C02F1A0BD9B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BD21-16CD-408A-98AA-5317DF29550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B3BF-ECB2-41DB-89E0-6E0F6C88177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4E24-0625-4E3C-B5D6-EBBD31D1DA9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FA3F-7FD9-453E-9832-2B1FE16DB9D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F8A7-EEF4-4257-9703-6C9538EC773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08A6-D32A-4E12-99B1-F623C8B5A7D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80D9-3F43-4FC7-9AF9-C19B721D62B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6485-EE4E-4080-8EB5-D1C6BEFFC30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7F23-CEB5-4B55-9718-A4B3CE9B991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7BC4-8CDC-4605-81BF-CF9FFC25108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4AAF-3E03-420C-AA0A-959DD996F7F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7389-BFA0-464E-8BA5-990D44ED823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3D71-DC0F-4ED8-8B4F-01581B1BA49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E452-BAC5-49F3-9ABD-7F84CF23EE0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9456-62B3-4C2B-8E7C-4180C92393B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4021-F1FC-4828-8172-EDA12D0AE80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A57F-B0B8-4EF6-BE04-B96CE153847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82C-F64A-49F1-823D-CDBE24CC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7A3-D926-4C77-934C-9D8E0BD7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BA9-7758-4238-9DB7-5A3D1297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366-9822-4054-89B6-CB4817C3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E46-C8C3-4566-A601-AFF8AAE2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60C-962D-4BA5-9CF1-B8D4F023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7E2D-C3C2-4584-B477-4DEDE295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9C05-DF01-4420-8194-CD6E6A0D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718-995E-479D-9CD4-D48E2343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10A-60A2-469E-86D7-81B1EC86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CBB-366B-4275-A4A6-DCD18827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930A-BF56-47D6-895C-3AD79010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B746-858D-4FF7-BA91-5EEF75978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52280" y="6039000"/>
            <a:ext cx="8834400" cy="523800"/>
          </a:xfrm>
          <a:prstGeom prst="rect">
            <a:avLst/>
          </a:prstGeom>
          <a:gradFill rotWithShape="0">
            <a:gsLst>
              <a:gs pos="0">
                <a:srgbClr val="e5e5e5"/>
              </a:gs>
              <a:gs pos="50000">
                <a:srgbClr val="ffffff"/>
              </a:gs>
              <a:gs pos="100000">
                <a:srgbClr val="e5e5e5"/>
              </a:gs>
            </a:gsLst>
            <a:lin ang="2700000"/>
          </a:gradFill>
          <a:ln w="0">
            <a:noFill/>
          </a:ln>
          <a:effectLst>
            <a:outerShdw dist="53966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4" name="Group 12"/>
          <p:cNvGrpSpPr/>
          <p:nvPr/>
        </p:nvGrpSpPr>
        <p:grpSpPr>
          <a:xfrm>
            <a:off x="152280" y="6033960"/>
            <a:ext cx="8840880" cy="532080"/>
            <a:chOff x="152280" y="6033960"/>
            <a:chExt cx="8840880" cy="532080"/>
          </a:xfrm>
        </p:grpSpPr>
        <p:sp>
          <p:nvSpPr>
            <p:cNvPr id="5" name="Freeform 6"/>
            <p:cNvSpPr/>
            <p:nvPr/>
          </p:nvSpPr>
          <p:spPr>
            <a:xfrm>
              <a:off x="152280" y="6033960"/>
              <a:ext cx="8840880" cy="15876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152280" y="6215040"/>
              <a:ext cx="8840880" cy="15876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152280" y="6396120"/>
              <a:ext cx="8840880" cy="158760"/>
            </a:xfrm>
            <a:prstGeom prst="pie">
              <a:avLst/>
            </a:pr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152280" y="6045120"/>
              <a:ext cx="8840880" cy="158760"/>
            </a:xfrm>
            <a:prstGeom prst="pie">
              <a:avLst/>
            </a:pr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152280" y="6226200"/>
              <a:ext cx="8840880" cy="158760"/>
            </a:xfrm>
            <a:prstGeom prst="pie">
              <a:avLst/>
            </a:pr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52280" y="6407280"/>
              <a:ext cx="8840880" cy="158760"/>
            </a:xfrm>
            <a:prstGeom prst="pie">
              <a:avLst/>
            </a:pr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afd00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RUMBL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52280" y="762120"/>
            <a:ext cx="85345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1523880" y="1400040"/>
          <a:ext cx="609912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00040"/>
                    <a:ext cx="60991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UM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Working backward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rom percent composition, you can determine the empirical formula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Empirical Formul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the lowest ratio of atoms in a molecu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sed on mole rati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sample is 59.53% C, 5.38%H, 10.68%N, and 24.40%O what is its empirical formula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5264280" y="4692600"/>
            <a:ext cx="2501640" cy="113040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78" name="Group 5"/>
          <p:cNvGrpSpPr/>
          <p:nvPr/>
        </p:nvGrpSpPr>
        <p:grpSpPr>
          <a:xfrm>
            <a:off x="4192560" y="5095800"/>
            <a:ext cx="1112760" cy="238320"/>
            <a:chOff x="4192560" y="5095800"/>
            <a:chExt cx="1112760" cy="238320"/>
          </a:xfrm>
        </p:grpSpPr>
        <p:sp>
          <p:nvSpPr>
            <p:cNvPr id="79" name="Line 3"/>
            <p:cNvSpPr/>
            <p:nvPr/>
          </p:nvSpPr>
          <p:spPr>
            <a:xfrm flipH="1">
              <a:off x="4192560" y="5095800"/>
              <a:ext cx="93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0" name="Rectangle 4"/>
            <p:cNvSpPr/>
            <p:nvPr/>
          </p:nvSpPr>
          <p:spPr>
            <a:xfrm>
              <a:off x="4205160" y="5106960"/>
              <a:ext cx="1100160" cy="22716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81" name="AutoShape 6"/>
          <p:cNvSpPr/>
          <p:nvPr/>
        </p:nvSpPr>
        <p:spPr>
          <a:xfrm>
            <a:off x="6102360" y="1149480"/>
            <a:ext cx="1968480" cy="1358640"/>
          </a:xfrm>
          <a:prstGeom prst="hexagon">
            <a:avLst>
              <a:gd name="adj" fmla="val 36201"/>
              <a:gd name="vf" fmla="val 115470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2597040" y="1454040"/>
            <a:ext cx="2197080" cy="749520"/>
          </a:xfrm>
          <a:prstGeom prst="roundRect">
            <a:avLst>
              <a:gd name="adj" fmla="val 38269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83" name="Group 10"/>
          <p:cNvGrpSpPr/>
          <p:nvPr/>
        </p:nvGrpSpPr>
        <p:grpSpPr>
          <a:xfrm>
            <a:off x="1972800" y="1724040"/>
            <a:ext cx="722880" cy="219240"/>
            <a:chOff x="1972800" y="1724040"/>
            <a:chExt cx="722880" cy="219240"/>
          </a:xfrm>
        </p:grpSpPr>
        <p:sp>
          <p:nvSpPr>
            <p:cNvPr id="84" name="Line 8"/>
            <p:cNvSpPr/>
            <p:nvPr/>
          </p:nvSpPr>
          <p:spPr>
            <a:xfrm flipH="1">
              <a:off x="1972800" y="1724040"/>
              <a:ext cx="608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1981080" y="1733400"/>
              <a:ext cx="714600" cy="20988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86" name="Line 11"/>
          <p:cNvSpPr/>
          <p:nvPr/>
        </p:nvSpPr>
        <p:spPr>
          <a:xfrm flipH="1">
            <a:off x="4782960" y="1733400"/>
            <a:ext cx="1416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791240" y="1743120"/>
            <a:ext cx="1380960" cy="2095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802040" y="1952640"/>
            <a:ext cx="137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89" name="Group 16"/>
          <p:cNvGrpSpPr/>
          <p:nvPr/>
        </p:nvGrpSpPr>
        <p:grpSpPr>
          <a:xfrm>
            <a:off x="1450800" y="496800"/>
            <a:ext cx="2494440" cy="1411200"/>
            <a:chOff x="1450800" y="496800"/>
            <a:chExt cx="2494440" cy="1411200"/>
          </a:xfrm>
        </p:grpSpPr>
        <p:sp>
          <p:nvSpPr>
            <p:cNvPr id="90" name="Rectangle 14"/>
            <p:cNvSpPr/>
            <p:nvPr/>
          </p:nvSpPr>
          <p:spPr>
            <a:xfrm>
              <a:off x="2050200" y="496800"/>
              <a:ext cx="1895040" cy="785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Pure O</a:t>
              </a:r>
              <a:r>
                <a:rPr b="0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in</a:t>
              </a:r>
              <a:endParaRPr b="0" lang="en-US" sz="32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1" name="Arc 15"/>
            <p:cNvSpPr/>
            <p:nvPr/>
          </p:nvSpPr>
          <p:spPr>
            <a:xfrm>
              <a:off x="1450800" y="841320"/>
              <a:ext cx="533520" cy="10666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92" name="Oval 17"/>
          <p:cNvSpPr/>
          <p:nvPr/>
        </p:nvSpPr>
        <p:spPr>
          <a:xfrm>
            <a:off x="6629400" y="2057400"/>
            <a:ext cx="228600" cy="22860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Oval 18"/>
          <p:cNvSpPr/>
          <p:nvPr/>
        </p:nvSpPr>
        <p:spPr>
          <a:xfrm>
            <a:off x="6705720" y="1447920"/>
            <a:ext cx="228600" cy="22860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Oval 19"/>
          <p:cNvSpPr/>
          <p:nvPr/>
        </p:nvSpPr>
        <p:spPr>
          <a:xfrm>
            <a:off x="7010280" y="1828800"/>
            <a:ext cx="228600" cy="22860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Oval 20"/>
          <p:cNvSpPr/>
          <p:nvPr/>
        </p:nvSpPr>
        <p:spPr>
          <a:xfrm>
            <a:off x="7391520" y="1371600"/>
            <a:ext cx="228600" cy="22860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Oval 21"/>
          <p:cNvSpPr/>
          <p:nvPr/>
        </p:nvSpPr>
        <p:spPr>
          <a:xfrm>
            <a:off x="7543800" y="1905120"/>
            <a:ext cx="228600" cy="22860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Oval 22"/>
          <p:cNvSpPr/>
          <p:nvPr/>
        </p:nvSpPr>
        <p:spPr>
          <a:xfrm>
            <a:off x="7162920" y="2209680"/>
            <a:ext cx="228600" cy="22860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Oval 23"/>
          <p:cNvSpPr/>
          <p:nvPr/>
        </p:nvSpPr>
        <p:spPr>
          <a:xfrm>
            <a:off x="6324480" y="1600200"/>
            <a:ext cx="228600" cy="22860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Oval 24"/>
          <p:cNvSpPr/>
          <p:nvPr/>
        </p:nvSpPr>
        <p:spPr>
          <a:xfrm>
            <a:off x="7010280" y="1295280"/>
            <a:ext cx="228600" cy="22860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Line 25"/>
          <p:cNvSpPr/>
          <p:nvPr/>
        </p:nvSpPr>
        <p:spPr>
          <a:xfrm>
            <a:off x="4821120" y="1733400"/>
            <a:ext cx="1370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7543800" y="2362320"/>
            <a:ext cx="152280" cy="232704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Line 27"/>
          <p:cNvSpPr/>
          <p:nvPr/>
        </p:nvSpPr>
        <p:spPr>
          <a:xfrm>
            <a:off x="7696080" y="2363760"/>
            <a:ext cx="0" cy="2360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7543800" y="2522520"/>
            <a:ext cx="0" cy="218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5311800" y="649440"/>
            <a:ext cx="2874960" cy="59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Rectangle 30"/>
          <p:cNvSpPr/>
          <p:nvPr/>
        </p:nvSpPr>
        <p:spPr>
          <a:xfrm>
            <a:off x="5325480" y="701640"/>
            <a:ext cx="2847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bsorb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Rectangle 31"/>
          <p:cNvSpPr/>
          <p:nvPr/>
        </p:nvSpPr>
        <p:spPr>
          <a:xfrm>
            <a:off x="4321080" y="3849840"/>
            <a:ext cx="2897280" cy="59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Rectangle 32"/>
          <p:cNvSpPr/>
          <p:nvPr/>
        </p:nvSpPr>
        <p:spPr>
          <a:xfrm>
            <a:off x="4334760" y="3902040"/>
            <a:ext cx="2870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is absorb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Rectangle 33"/>
          <p:cNvSpPr/>
          <p:nvPr/>
        </p:nvSpPr>
        <p:spPr>
          <a:xfrm>
            <a:off x="816120" y="2340000"/>
            <a:ext cx="3457440" cy="2155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914400" y="2392200"/>
            <a:ext cx="32608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mple is burned completely to form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Line 35"/>
          <p:cNvSpPr/>
          <p:nvPr/>
        </p:nvSpPr>
        <p:spPr>
          <a:xfrm flipH="1" flipV="1">
            <a:off x="1962000" y="1952280"/>
            <a:ext cx="65088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AutoShape 36"/>
          <p:cNvSpPr/>
          <p:nvPr/>
        </p:nvSpPr>
        <p:spPr>
          <a:xfrm>
            <a:off x="6864480" y="5416560"/>
            <a:ext cx="291960" cy="291960"/>
          </a:xfrm>
          <a:custGeom>
            <a:avLst/>
            <a:gdLst>
              <a:gd name="textAreaLeft" fmla="*/ 66600 w 291960"/>
              <a:gd name="textAreaRight" fmla="*/ 225360 w 291960"/>
              <a:gd name="textAreaTop" fmla="*/ 66600 h 291960"/>
              <a:gd name="textAreaBottom" fmla="*/ 22536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AutoShape 37"/>
          <p:cNvSpPr/>
          <p:nvPr/>
        </p:nvSpPr>
        <p:spPr>
          <a:xfrm>
            <a:off x="7093080" y="4730760"/>
            <a:ext cx="291960" cy="291960"/>
          </a:xfrm>
          <a:custGeom>
            <a:avLst/>
            <a:gdLst>
              <a:gd name="textAreaLeft" fmla="*/ 66600 w 291960"/>
              <a:gd name="textAreaRight" fmla="*/ 225360 w 291960"/>
              <a:gd name="textAreaTop" fmla="*/ 66600 h 291960"/>
              <a:gd name="textAreaBottom" fmla="*/ 22536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AutoShape 38"/>
          <p:cNvSpPr/>
          <p:nvPr/>
        </p:nvSpPr>
        <p:spPr>
          <a:xfrm>
            <a:off x="7397640" y="5492880"/>
            <a:ext cx="292320" cy="291960"/>
          </a:xfrm>
          <a:custGeom>
            <a:avLst/>
            <a:gdLst>
              <a:gd name="textAreaLeft" fmla="*/ 66600 w 292320"/>
              <a:gd name="textAreaRight" fmla="*/ 225720 w 292320"/>
              <a:gd name="textAreaTop" fmla="*/ 66600 h 291960"/>
              <a:gd name="textAreaBottom" fmla="*/ 22536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AutoShape 39"/>
          <p:cNvSpPr/>
          <p:nvPr/>
        </p:nvSpPr>
        <p:spPr>
          <a:xfrm>
            <a:off x="6407280" y="4730760"/>
            <a:ext cx="291960" cy="291960"/>
          </a:xfrm>
          <a:custGeom>
            <a:avLst/>
            <a:gdLst>
              <a:gd name="textAreaLeft" fmla="*/ 66600 w 291960"/>
              <a:gd name="textAreaRight" fmla="*/ 225360 w 291960"/>
              <a:gd name="textAreaTop" fmla="*/ 66600 h 291960"/>
              <a:gd name="textAreaBottom" fmla="*/ 22536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AutoShape 40"/>
          <p:cNvSpPr/>
          <p:nvPr/>
        </p:nvSpPr>
        <p:spPr>
          <a:xfrm>
            <a:off x="6788160" y="5035680"/>
            <a:ext cx="291960" cy="291960"/>
          </a:xfrm>
          <a:custGeom>
            <a:avLst/>
            <a:gdLst>
              <a:gd name="textAreaLeft" fmla="*/ 66600 w 291960"/>
              <a:gd name="textAreaRight" fmla="*/ 225360 w 291960"/>
              <a:gd name="textAreaTop" fmla="*/ 66600 h 291960"/>
              <a:gd name="textAreaBottom" fmla="*/ 22536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AutoShape 41"/>
          <p:cNvSpPr/>
          <p:nvPr/>
        </p:nvSpPr>
        <p:spPr>
          <a:xfrm>
            <a:off x="6254640" y="5416560"/>
            <a:ext cx="292320" cy="291960"/>
          </a:xfrm>
          <a:custGeom>
            <a:avLst/>
            <a:gdLst>
              <a:gd name="textAreaLeft" fmla="*/ 66600 w 292320"/>
              <a:gd name="textAreaRight" fmla="*/ 225720 w 292320"/>
              <a:gd name="textAreaTop" fmla="*/ 66600 h 291960"/>
              <a:gd name="textAreaBottom" fmla="*/ 22536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AutoShape 42"/>
          <p:cNvSpPr/>
          <p:nvPr/>
        </p:nvSpPr>
        <p:spPr>
          <a:xfrm>
            <a:off x="5950080" y="4883040"/>
            <a:ext cx="291960" cy="292320"/>
          </a:xfrm>
          <a:custGeom>
            <a:avLst/>
            <a:gdLst>
              <a:gd name="textAreaLeft" fmla="*/ 66600 w 291960"/>
              <a:gd name="textAreaRight" fmla="*/ 225360 w 291960"/>
              <a:gd name="textAreaTop" fmla="*/ 66600 h 292320"/>
              <a:gd name="textAreaBottom" fmla="*/ 22572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AutoShape 43"/>
          <p:cNvSpPr/>
          <p:nvPr/>
        </p:nvSpPr>
        <p:spPr>
          <a:xfrm>
            <a:off x="5568840" y="4883040"/>
            <a:ext cx="292320" cy="292320"/>
          </a:xfrm>
          <a:custGeom>
            <a:avLst/>
            <a:gdLst>
              <a:gd name="textAreaLeft" fmla="*/ 66600 w 292320"/>
              <a:gd name="textAreaRight" fmla="*/ 225720 w 292320"/>
              <a:gd name="textAreaTop" fmla="*/ 66600 h 292320"/>
              <a:gd name="textAreaBottom" fmla="*/ 22572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AutoShape 44"/>
          <p:cNvSpPr/>
          <p:nvPr/>
        </p:nvSpPr>
        <p:spPr>
          <a:xfrm>
            <a:off x="5645160" y="5416560"/>
            <a:ext cx="291960" cy="291960"/>
          </a:xfrm>
          <a:custGeom>
            <a:avLst/>
            <a:gdLst>
              <a:gd name="textAreaLeft" fmla="*/ 66600 w 291960"/>
              <a:gd name="textAreaRight" fmla="*/ 225360 w 291960"/>
              <a:gd name="textAreaTop" fmla="*/ 66600 h 291960"/>
              <a:gd name="textAreaBottom" fmla="*/ 22536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Line 45"/>
          <p:cNvSpPr/>
          <p:nvPr/>
        </p:nvSpPr>
        <p:spPr>
          <a:xfrm flipH="1">
            <a:off x="4268520" y="5105520"/>
            <a:ext cx="9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Line 46"/>
          <p:cNvSpPr/>
          <p:nvPr/>
        </p:nvSpPr>
        <p:spPr>
          <a:xfrm flipH="1">
            <a:off x="4192200" y="5334120"/>
            <a:ext cx="1065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AutoShape 47"/>
          <p:cNvSpPr/>
          <p:nvPr/>
        </p:nvSpPr>
        <p:spPr>
          <a:xfrm>
            <a:off x="2901960" y="2063880"/>
            <a:ext cx="216000" cy="63360"/>
          </a:xfrm>
          <a:prstGeom prst="pie">
            <a:avLst/>
          </a:prstGeom>
          <a:solidFill>
            <a:srgbClr val="00dfca"/>
          </a:soli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AutoShape 48"/>
          <p:cNvSpPr/>
          <p:nvPr/>
        </p:nvSpPr>
        <p:spPr>
          <a:xfrm>
            <a:off x="3435480" y="2063880"/>
            <a:ext cx="215640" cy="63360"/>
          </a:xfrm>
          <a:prstGeom prst="pie">
            <a:avLst/>
          </a:prstGeom>
          <a:solidFill>
            <a:srgbClr val="00dfca"/>
          </a:soli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AutoShape 49"/>
          <p:cNvSpPr/>
          <p:nvPr/>
        </p:nvSpPr>
        <p:spPr>
          <a:xfrm>
            <a:off x="3816360" y="1987560"/>
            <a:ext cx="216000" cy="63360"/>
          </a:xfrm>
          <a:prstGeom prst="pie">
            <a:avLst/>
          </a:prstGeom>
          <a:solidFill>
            <a:srgbClr val="00dfca"/>
          </a:soli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AutoShape 50"/>
          <p:cNvSpPr/>
          <p:nvPr/>
        </p:nvSpPr>
        <p:spPr>
          <a:xfrm>
            <a:off x="3206880" y="1835280"/>
            <a:ext cx="215640" cy="63360"/>
          </a:xfrm>
          <a:prstGeom prst="pie">
            <a:avLst/>
          </a:prstGeom>
          <a:solidFill>
            <a:srgbClr val="00dfca"/>
          </a:soli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AutoShape 51"/>
          <p:cNvSpPr/>
          <p:nvPr/>
        </p:nvSpPr>
        <p:spPr>
          <a:xfrm>
            <a:off x="4349880" y="2063880"/>
            <a:ext cx="215640" cy="63360"/>
          </a:xfrm>
          <a:prstGeom prst="pie">
            <a:avLst/>
          </a:prstGeom>
          <a:solidFill>
            <a:srgbClr val="00dfca"/>
          </a:soli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AutoShape 52"/>
          <p:cNvSpPr/>
          <p:nvPr/>
        </p:nvSpPr>
        <p:spPr>
          <a:xfrm>
            <a:off x="4197240" y="1911240"/>
            <a:ext cx="216000" cy="63720"/>
          </a:xfrm>
          <a:prstGeom prst="pie">
            <a:avLst/>
          </a:prstGeom>
          <a:solidFill>
            <a:srgbClr val="00dfca"/>
          </a:soli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AutoShape 53"/>
          <p:cNvSpPr/>
          <p:nvPr/>
        </p:nvSpPr>
        <p:spPr>
          <a:xfrm>
            <a:off x="2825640" y="1758960"/>
            <a:ext cx="216000" cy="63360"/>
          </a:xfrm>
          <a:prstGeom prst="pie">
            <a:avLst/>
          </a:prstGeom>
          <a:solidFill>
            <a:srgbClr val="00dfca"/>
          </a:soli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AutoShape 54"/>
          <p:cNvSpPr/>
          <p:nvPr/>
        </p:nvSpPr>
        <p:spPr>
          <a:xfrm>
            <a:off x="3968640" y="1682640"/>
            <a:ext cx="216000" cy="63720"/>
          </a:xfrm>
          <a:prstGeom prst="pie">
            <a:avLst/>
          </a:prstGeom>
          <a:solidFill>
            <a:srgbClr val="00dfca"/>
          </a:soli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0.2000 gram sample of a compound (vitamin C) composed of only C, H, and O is burned completely with excess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. 0.2998 g of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and 0.0819 g of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 are produced. What is the empirical formula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mpirical To Molecular Formula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7180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mpirical is lowest rati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lecular is actual molecu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eed Molar ma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atio of empirical to molar mass will tell you the molecular formul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ust be a whole number because..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compound is made of only sulfur and nitrogen. It is 69.6% S by mass. Its molar mass is 184 g/mol. What is its formula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Chemical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re sentenc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Describe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what happens in a chemical reac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actant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Produc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quations should be </a:t>
            </a: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balanc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ave the same number of each kind of atoms on both sides because ..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Balancing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523880" y="1447920"/>
            <a:ext cx="6553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+  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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+  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114640" y="2179800"/>
            <a:ext cx="177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tan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934880" y="2179800"/>
            <a:ext cx="1611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174560" y="2925720"/>
            <a:ext cx="523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564720" y="29257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4860360" y="29257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175280" y="475452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564720" y="47545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4860360" y="47545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175280" y="384012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56472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486036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lancing equation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523880" y="1447920"/>
            <a:ext cx="6553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+  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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+  2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114640" y="2179800"/>
            <a:ext cx="177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tan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934880" y="2179800"/>
            <a:ext cx="1611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4174560" y="2925720"/>
            <a:ext cx="523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564720" y="29257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60360" y="29257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175280" y="475452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3564720" y="47545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4860360" y="47545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175280" y="384012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356472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486036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554616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4649760" y="3811680"/>
            <a:ext cx="836640" cy="6840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lancing equation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523880" y="1447920"/>
            <a:ext cx="6553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+  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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+  2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114640" y="2179800"/>
            <a:ext cx="177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tan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4934880" y="2179800"/>
            <a:ext cx="1611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174560" y="2925720"/>
            <a:ext cx="523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564720" y="29257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4860360" y="29257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4175280" y="475452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3564720" y="47545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4860360" y="47545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4175280" y="384012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356472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486036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554616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4649760" y="3811680"/>
            <a:ext cx="836640" cy="6840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4649760" y="4649760"/>
            <a:ext cx="836640" cy="6843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5622120" y="467820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lancing equation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523880" y="1447920"/>
            <a:ext cx="6553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+ 2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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+  2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114640" y="2179800"/>
            <a:ext cx="177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tan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934880" y="2179800"/>
            <a:ext cx="1611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174560" y="2925720"/>
            <a:ext cx="523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564720" y="29257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4860360" y="29257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4175280" y="475452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3564720" y="47545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4860360" y="47545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4175280" y="384012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356472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486036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554616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Line 16"/>
          <p:cNvSpPr/>
          <p:nvPr/>
        </p:nvSpPr>
        <p:spPr>
          <a:xfrm>
            <a:off x="4649760" y="3811680"/>
            <a:ext cx="836640" cy="6840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Line 17"/>
          <p:cNvSpPr/>
          <p:nvPr/>
        </p:nvSpPr>
        <p:spPr>
          <a:xfrm>
            <a:off x="4649760" y="4649760"/>
            <a:ext cx="836640" cy="6843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5622120" y="467820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Line 19"/>
          <p:cNvSpPr/>
          <p:nvPr/>
        </p:nvSpPr>
        <p:spPr>
          <a:xfrm>
            <a:off x="3430440" y="4802040"/>
            <a:ext cx="836640" cy="6843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2878920" y="47545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toms are so small, it is difficult to discuss how much they weigh in gram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se atomic mass unit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 atomic mass unit (amu) is one twelfth the mass of a carbon-12  ato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s gives us a basis for comparis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decimal numbers on the table are atomic masses in am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Abbrevi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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r product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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r product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32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32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talys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04" name="Group 7"/>
          <p:cNvGrpSpPr/>
          <p:nvPr/>
        </p:nvGrpSpPr>
        <p:grpSpPr>
          <a:xfrm>
            <a:off x="1058760" y="3715920"/>
            <a:ext cx="1684440" cy="370080"/>
            <a:chOff x="1058760" y="3715920"/>
            <a:chExt cx="1684440" cy="370080"/>
          </a:xfrm>
        </p:grpSpPr>
        <p:sp>
          <p:nvSpPr>
            <p:cNvPr id="205" name="Line 4"/>
            <p:cNvSpPr/>
            <p:nvPr/>
          </p:nvSpPr>
          <p:spPr>
            <a:xfrm>
              <a:off x="1058760" y="3905280"/>
              <a:ext cx="1684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6" name="Line 5"/>
            <p:cNvSpPr/>
            <p:nvPr/>
          </p:nvSpPr>
          <p:spPr>
            <a:xfrm flipV="1">
              <a:off x="2535120" y="3897000"/>
              <a:ext cx="189000" cy="189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7" name="Line 6"/>
            <p:cNvSpPr/>
            <p:nvPr/>
          </p:nvSpPr>
          <p:spPr>
            <a:xfrm flipH="1" flipV="1">
              <a:off x="2534760" y="3715920"/>
              <a:ext cx="189000" cy="189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208" name="Group 11"/>
          <p:cNvGrpSpPr/>
          <p:nvPr/>
        </p:nvGrpSpPr>
        <p:grpSpPr>
          <a:xfrm>
            <a:off x="1011240" y="4597560"/>
            <a:ext cx="1684440" cy="369360"/>
            <a:chOff x="1011240" y="4597560"/>
            <a:chExt cx="1684440" cy="369360"/>
          </a:xfrm>
        </p:grpSpPr>
        <p:sp>
          <p:nvSpPr>
            <p:cNvPr id="209" name="Line 8"/>
            <p:cNvSpPr/>
            <p:nvPr/>
          </p:nvSpPr>
          <p:spPr>
            <a:xfrm>
              <a:off x="1011240" y="4786200"/>
              <a:ext cx="1684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0" name="Line 9"/>
            <p:cNvSpPr/>
            <p:nvPr/>
          </p:nvSpPr>
          <p:spPr>
            <a:xfrm flipV="1">
              <a:off x="2487600" y="4778280"/>
              <a:ext cx="189000" cy="188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1" name="Line 10"/>
            <p:cNvSpPr/>
            <p:nvPr/>
          </p:nvSpPr>
          <p:spPr>
            <a:xfrm flipH="1" flipV="1">
              <a:off x="2487240" y="4597560"/>
              <a:ext cx="189000" cy="188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212" name="Group 15"/>
          <p:cNvGrpSpPr/>
          <p:nvPr/>
        </p:nvGrpSpPr>
        <p:grpSpPr>
          <a:xfrm>
            <a:off x="1025640" y="5420880"/>
            <a:ext cx="1684080" cy="370080"/>
            <a:chOff x="1025640" y="5420880"/>
            <a:chExt cx="1684080" cy="370080"/>
          </a:xfrm>
        </p:grpSpPr>
        <p:sp>
          <p:nvSpPr>
            <p:cNvPr id="213" name="Line 12"/>
            <p:cNvSpPr/>
            <p:nvPr/>
          </p:nvSpPr>
          <p:spPr>
            <a:xfrm>
              <a:off x="1025640" y="5610240"/>
              <a:ext cx="1684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 flipV="1">
              <a:off x="2502000" y="5601960"/>
              <a:ext cx="188640" cy="189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 flipH="1" flipV="1">
              <a:off x="2502000" y="5420880"/>
              <a:ext cx="188640" cy="189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Practic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 + C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P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Cl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olid iron(III) sulfide reacts with gaseous hydrogen chloride to form solid iron(III) chloride and dihydrogen monosulfide ga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+ Al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Fe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+ A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Meaning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balanced equation can be used to describe a reaction in molecules and atom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ot gram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hemical reactions happen molecules at a tim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r dozens of molecules at a tim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r moles of molecules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Stoichiometry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Given an amount of either starting material or product, determining the other quantiti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se conversion factors fro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lar mass (g - mole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lanced equation (mole - mole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eep track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ne way of producing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involves the decomposition of potassium chlorate into potassium chloride and oxygen gas. A 25.5 g sample of Potassium chlorate is decomposed. How many moles of 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g) are produced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w many grams of potassium chloride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w many grams of oxygen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piece of aluminum foil 5.11 in x 3.23 in x 0.0381 in is dissolved in excess HCl(aq). How many grams of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are produced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w many grams of each reactant are needed to produce 15 grams of iron from the following reaction?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+ Al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Fe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+ A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t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+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Pt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+ KCl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mass of Pt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n be produced from 65 g of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t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w much KCl will be produced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w much from 65 grams of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Yield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w much you get from an chemical reac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Limiting Reagent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actant that determines the amount of product formed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one you run out of firs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kes the least produc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ook shows you a ratio metho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t works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o does min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Limiting reagent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o determine the limiting reagent requires that you do two stoichiometry problem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gure out how much product each reactant mak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one that makes the least is the limiting reagen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hey are not whole numbers </a:t>
            </a: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	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ecause they are based on averages of atoms and of isotop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n figure out the average atomic mass from the mass of the isotopes and their relative abundanc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dd up the percent  as decimals times the  masses of the isotop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mmonia is produced by the following reaction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mass of ammonia can be produced from a mixture of 500. g 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and 100. g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w much unreacted material remains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2.00 g sample of ammonia is mixed with 4.00 g of oxygen.  Which is the limiting reactant and how much excess reactant remains after the reaction has stopped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4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g) + 5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g)→4 NO(g) + 6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(g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cess Reagent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reactant you don’t run out of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amount of stuff you make is the yiel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theoretical yield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s the amount you would make if everything went perfec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actual yield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s what you make in the lab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Percent Yield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% yield =   Actual       x 100%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Theoretical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% yield =     what you got           x 100%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you could have  go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2744640" y="2209680"/>
            <a:ext cx="2208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Line 5"/>
          <p:cNvSpPr/>
          <p:nvPr/>
        </p:nvSpPr>
        <p:spPr>
          <a:xfrm>
            <a:off x="2592360" y="3505320"/>
            <a:ext cx="4646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uminum burns in bromine producing aluminum bromide. In a laboratory 6.0 g of aluminum reacts with excess bromine. 50.3 g of aluminum bromide are produced. What are the three types of yiel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Years of  experience have proven that the percent yield for the following reaction is 74.3%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g + 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Hg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If 10.0 g of Hg and 9.00 g of  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are reacted, how much Hg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will be produced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the reaction did go to completion, how much excess reagent would be left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36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mmercial brass is an alloy of Cu and Zn. It reacts with HCl by the following reaction Zn(s) + 2HCl(aq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Zn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(aq)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g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u does not react. When 0.5065 g of brass is reacted with excess HCl, 0.0985 g of Zn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are eventually isolated.  What is the composition of the brass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re are two isotopes of carbon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 with a mass of 12.00000 amu(98.892%), and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 with a mass of 13.00335 amu (1.108%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re are two isotopes of nitrogen , one with an atomic mass of 14.0031 amu and one with a mass of 15.0001 amu. What is the percent abundance of each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he Mol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mole is a numb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very large number, but still, just a numb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6.02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of anything is a mo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large doze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number of atoms in exactly 12 grams of carbon-12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he Mol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kes the numbers on the table the mass of the average ato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verage atomic ma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Just atomic ma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Molar mas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ss of 1 mole of a substa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ften called molecular weigh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o determine the molar mass of an element, look on the tabl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o determine the molar mass of a compound, add up the molar masses of the elements that make it up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Find the molar mass of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g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C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·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Percent Composi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ercent of each element a compound is composed of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nd the mass of each element, divide by the total mass, multiply by a 100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asiest if you use a mole of the compoun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nd the percent composition of 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C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·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6T01:05:37Z</dcterms:created>
  <dc:creator>Tom</dc:creator>
  <dc:description/>
  <dc:language>en-US</dc:language>
  <cp:lastModifiedBy>FPS</cp:lastModifiedBy>
  <cp:lastPrinted>1998-09-26T17:52:14Z</cp:lastPrinted>
  <dcterms:modified xsi:type="dcterms:W3CDTF">2009-06-08T18:27:54Z</dcterms:modified>
  <cp:revision>2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>http://mrgreen.tierranet.com</vt:lpwstr>
  </property>
  <property fmtid="{D5CDD505-2E9C-101B-9397-08002B2CF9AE}" pid="9" name="LinkColor">
    <vt:r8>16711782</vt:r8>
  </property>
  <property fmtid="{D5CDD505-2E9C-101B-9397-08002B2CF9AE}" pid="10" name="MailAddress">
    <vt:lpwstr>tvgreen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DATA\Web Pages\Temp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